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0000ff"/>
                </a:solidFill>
                <a:latin typeface="Comic Sans MS"/>
              </a:rPr>
              <a:t>La Pediculos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85800" y="44197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 cura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rea Dipartimentale di Epidemiologia e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SL NA 2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71952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6421320" cy="1417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Che cos’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E’ un’infestazione causata dalla presenza di un piccolissimo insetto (Pediculus capitis) conosciuto volgarmente com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Pidoc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3879720" y="1828800"/>
            <a:ext cx="1384560" cy="208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3309480" y="3887640"/>
            <a:ext cx="252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mic Sans MS"/>
              </a:rPr>
              <a:t>Pidocchio del ca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Come si trasm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50292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Via indiretta: scambio di pettini, biancheria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2222640" cy="163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6248520" y="4800600"/>
            <a:ext cx="520560" cy="1778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1654200" y="1581120"/>
            <a:ext cx="5835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Molto frequente nelle comun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(scuole, caserme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978120" y="3733920"/>
            <a:ext cx="418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Via diretta: testa-t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asellaDiTesto 1"/>
          <p:cNvSpPr/>
          <p:nvPr/>
        </p:nvSpPr>
        <p:spPr>
          <a:xfrm>
            <a:off x="900000" y="2784600"/>
            <a:ext cx="46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Viene trasmessa attraver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Come vive il pidocch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Come si manifes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396216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L’infestazione si manifesta con u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ff"/>
                </a:solidFill>
                <a:latin typeface="Comic Sans MS"/>
              </a:rPr>
              <a:t>intenso prurit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al capo o al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corpo, a seconda del tipo di pidocchio e della sua loc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Oltre al pidocchio si possono osservare le sue uova dette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ff"/>
                </a:solidFill>
                <a:latin typeface="Comic Sans MS"/>
              </a:rPr>
              <a:t>lèndini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localizzate soprattutto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ff"/>
                </a:solidFill>
                <a:latin typeface="Comic Sans MS"/>
              </a:rPr>
              <a:t>all’altezza della nuca o dietro le orecch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986280" y="1523880"/>
            <a:ext cx="1131840" cy="229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A chi rivolgers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Al proprio medico di fami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omic Sans MS"/>
              </a:rPr>
              <a:t>Al </a:t>
            </a:r>
            <a:r>
              <a:rPr b="1" i="1" lang="it-IT" sz="2800" spc="-1" strike="noStrike">
                <a:solidFill>
                  <a:srgbClr val="000099"/>
                </a:solidFill>
                <a:latin typeface="Comic Sans MS"/>
              </a:rPr>
              <a:t>dermatolo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3867120" y="1600200"/>
          <a:ext cx="13273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1600200"/>
                    <a:ext cx="13273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8"/>
          <p:cNvSpPr/>
          <p:nvPr/>
        </p:nvSpPr>
        <p:spPr>
          <a:xfrm>
            <a:off x="669960" y="54864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Contatti e Conviventi possono rivolgersi alle Unità Operative Semplici di Epidemi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Come si cur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6934320" y="3200400"/>
            <a:ext cx="1288800" cy="1854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698040" y="2695680"/>
            <a:ext cx="5545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Applicare sui capelli o su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prodotti antiparassitari specif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767880" y="4038480"/>
            <a:ext cx="5196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Asportare le lendini dai cap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678960" y="5029200"/>
            <a:ext cx="4425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Lavare gli oggetti veic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Comic Sans MS"/>
              </a:rPr>
              <a:t>dell’infes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309920" y="2857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114800" y="32716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VERO o FAL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E’ utile l’uso di antiparassitari nelle persone non inf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324480" y="990720"/>
            <a:ext cx="1905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F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32"/>
          <p:cNvSpPr/>
          <p:nvPr/>
        </p:nvSpPr>
        <p:spPr>
          <a:xfrm>
            <a:off x="457200" y="1066680"/>
            <a:ext cx="3846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Gli animali trasmet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la pediculosi all’ u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33"/>
          <p:cNvSpPr/>
          <p:nvPr/>
        </p:nvSpPr>
        <p:spPr>
          <a:xfrm>
            <a:off x="433440" y="3429000"/>
            <a:ext cx="35668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Il pidocchio predil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il capello pul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34"/>
          <p:cNvSpPr/>
          <p:nvPr/>
        </p:nvSpPr>
        <p:spPr>
          <a:xfrm>
            <a:off x="6519960" y="2590920"/>
            <a:ext cx="15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F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5"/>
          <p:cNvSpPr/>
          <p:nvPr/>
        </p:nvSpPr>
        <p:spPr>
          <a:xfrm>
            <a:off x="6492600" y="3809880"/>
            <a:ext cx="14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V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36"/>
          <p:cNvSpPr/>
          <p:nvPr/>
        </p:nvSpPr>
        <p:spPr>
          <a:xfrm>
            <a:off x="304920" y="441972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Il pidocchio può infes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anche persone che seguono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corretta ig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8"/>
          <p:cNvSpPr/>
          <p:nvPr/>
        </p:nvSpPr>
        <p:spPr>
          <a:xfrm>
            <a:off x="6400800" y="50292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V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0000ff"/>
                </a:solidFill>
                <a:latin typeface="Comic Sans MS"/>
              </a:rPr>
              <a:t>La Pediculos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44197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 cura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rea Dipartimentale di Epidemiologia e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SL NA 2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71952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413000" y="3335400"/>
            <a:ext cx="62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Comic Sans MS"/>
              </a:rPr>
              <a:t>Grazie per l’attenzi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10:50:31Z</dcterms:created>
  <dc:creator>Parlato</dc:creator>
  <dc:description/>
  <dc:language>en-US</dc:language>
  <cp:lastModifiedBy>Maria Rosaria Granata</cp:lastModifiedBy>
  <dcterms:modified xsi:type="dcterms:W3CDTF">2015-05-22T08:12:46Z</dcterms:modified>
  <cp:revision>51</cp:revision>
  <dc:subject/>
  <dc:title>PEDICULOSI</dc:title>
</cp:coreProperties>
</file>